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8CE4-35C2-4469-BBB1-38C893572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53FC-E423-43BB-85B0-923EDCCF0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B138-D074-43A5-980A-8C609953D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3792-FFFC-4AE5-A3BD-0BBC06001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485-065C-4A9A-821D-88326C974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A8DD-1B32-423A-BE28-48F60028B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784E-0359-4157-8625-F0212351C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0E8-43CB-4C38-A39C-8C0C62F9E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05F8-A7B8-4C54-B435-944904D0D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087-C06D-4583-81B5-86CB2100C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099C-0AF3-4FED-8353-F89D303D4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D239-243A-425C-B02B-8282D1F99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9C5-DF4C-4099-AEAD-2D42FF063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A30-89B2-4576-A001-6710A5092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8EC2-58B2-4C44-B996-BE67BA9EC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708-0229-4C52-BFFD-F92F747B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3262-5927-47FB-9A4E-22BEC140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CB29E-BEC9-4E9A-8254-B1A57B9D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C13CC-A6FE-4612-B1AD-B700BFEF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29A14-04F8-4A04-BACF-4255DA43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FF23E-8F1A-4865-AA73-461A0625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C90108-8956-4E2D-835F-B1F3BBD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BCB98-9132-4AA1-8FCE-E0DA4ED5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4B83C7-D167-4825-BB2A-AD65E249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D5C0B-5F77-4473-A27E-3F46972C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30615E-CB61-4D28-9944-19C75AE9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71B3F5-D982-492D-BE6D-81A35402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E95-12B6-4F7F-B138-55F3D090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A4946F-1148-48A5-BAD1-063E5BD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990110-2A29-4540-B840-E79B2D9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E8AB73-E4C0-4A6B-BD5E-48331C3B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C63215-2ED2-415E-A861-F85C3A27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FC7D2F-5709-4051-96FD-F401EC2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D0C702-1F7B-4610-A4C3-022E1531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8B2E69-0C6E-4A77-BC27-B55090C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36196E-F451-4007-8C32-806C2EEC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43F648-BE79-4EEF-B7EF-060D390C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787B1-90BB-4800-9B11-F0FEAD08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217-46BA-447E-B148-F1530F46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9BE847-F00F-4076-AA98-6A70B509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0D9006-253F-4F6D-90D1-6B660EC4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A16EA-6A4B-4BDE-AB13-FCE69165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CFF436-3CAC-4C3F-BE9C-9830962F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191A21-E7E1-463C-964B-2166165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B928EA-0945-4860-B83E-E865F11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56BC2E-1FD6-4F4B-A2A0-5262B50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07DB89-682B-44F8-83E9-A4A3CD50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283E58-C6F0-4353-B3EA-461AB530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C3A83B-C849-405D-98E0-BD445923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B5859-DD4F-42DB-A858-35EA2283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F6FCBA-26BD-4070-91FA-FF25D9A3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E066D0-05C8-4715-998C-176CC1E6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B0235A-DE29-4CFC-ACB6-0D11C18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64E1B7-51FA-4D77-AD4E-0336316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6B2911-C347-414D-9BEE-2E74204B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1BA9EB-1629-44AA-B2DA-73F6839D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39D749-BA75-4FCC-A338-69B0B1E3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EAD4A-488E-45A4-B11C-44DDB5D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77CC8F2-55E7-47E2-A464-DD4F7079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B3DE5E-1121-41CD-B670-A607731F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5B056-E331-4D4C-800B-9316A26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88B102-9FF5-4448-B6BF-4924C85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4EAFF8-F250-4127-BAA3-7D892D5A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68DC1B-C87F-4A00-A3BC-6B9B1354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236D15-4564-4740-A473-1AB39128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8A3990-606B-42E1-ADE4-005A988B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0C8A97-C338-40D1-85B0-47F281F7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DAFD4-998F-4F90-A64B-8C6D45E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B18C8E-DB55-4C7B-93FB-99E2BAE1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1FECF3-4343-4F2E-BEF2-D12DE44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BC635A-AC47-4E36-840C-B6A8C5EF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7FBBE-19DC-423E-8C64-EB1886B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89A7D3-5099-4EE2-A0F8-D7EA6456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0517BD-B0F1-43B8-8854-D1580E85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74FB8C-35FE-4D5C-A0B1-A51C9F13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B5369C-9BB0-4E2E-B4D0-DEA1970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C8DE76-B4A8-4829-977D-76473914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800D60-76EB-4532-AC13-CE5F873F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CB8D8B-ED64-41C5-AA39-93502632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77F1352-71BD-4C4B-A7B2-CA7B681C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3F0739-563A-4A19-8944-513F5486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FF38F5-9ACA-4750-A667-343EAF83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6458A-0E97-43C0-9137-0CF7FE12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F1E997C-FA8C-4383-ACD5-BF57604C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3E03F3-3FED-4E97-A8AC-EEF78C0C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49EDE4-10BA-4466-A36B-80A3373D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2B3A60-AE90-45B7-A2F0-8538EEFA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C73C08-D3C5-4D70-950C-835C8A1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F3855B-62FA-44C3-B9BB-D0E1A833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22AB87-62C5-42D4-B968-19E012E1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5D7E61-0018-4112-A7A9-E4FA6922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EA1F94-A001-4AFB-BCD2-70BC44CC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3D279C-F31E-4B02-A629-0EBBEAE4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6BBB0-5EE6-4ABB-8491-80656311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7275D2-DBDB-4EC2-8E3C-1914FB21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7F57F3-C2D5-4067-BF80-22F8E59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C34A35-30B3-44D6-9FA0-06BC8959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B98003-8C29-4ECA-8964-DACDBF8A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43B7C29-7C86-4F3E-AF3C-4EAF576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4D7B71-174D-4ADC-84D2-F01CA2BF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00206C-8C87-4374-A357-443C038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988F6C-1E5E-45A0-B60B-0E1EFBE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5E8DD2-C423-4783-86C7-80A47DA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A05A9C-183A-4A79-A42F-48DADE1B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52063-8962-48B6-8D39-39139C4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22E482-5600-4F53-B492-45427AEF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417E54-4BCC-4DAF-B518-EED0300E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3E454F8-6C68-4F72-AD22-E1D25328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2B981C-44A5-4404-9D78-6E2A1557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0394F-DB2D-4634-ADC3-21F6D588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449F94-116F-46EE-9C82-92F3F3A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50BBE2-BACF-4710-8AC0-FF3E0BCC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3B1E06-74A2-4379-BEDE-B048E5D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9DF720-43A7-4863-BEAE-D4D79B0B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C00EED-2471-4943-B8C6-B51033B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85A6E-0855-4DEB-9634-A1CC375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E3C016-6F05-491B-ABE1-A71A1FD1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92B67B-0F46-4143-9DA5-52A4EC55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BB09E72-A999-43E5-B6CE-1A5FAFBD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3F6089-8AC2-4BCB-99DC-E189CE82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17EF7C-B28A-4E48-B28D-F5BFBB69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BEFDBE7-1F14-4147-B56D-FE809B2D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0084E7-56CF-41E4-B8E1-2C82363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98FEB7-11DC-4CAE-A1E1-44E8ED7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B2E8E5-FBB5-4EE8-B4EE-2132BE0B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BE04C9C-2EE4-4E24-861A-1A5B1441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BB-15DC-44D9-BF93-2FBB891F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2C3A-A553-4B82-A422-97E73B1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BAA3CB-A38A-4874-8405-448384F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F71CDC8-40B1-4897-B47B-4C096C0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0DE115-E551-4C30-B9FB-579FF44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B2FA71-13F2-49F0-843A-F3216732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8BFB21-CA2D-43DB-9088-0EA7E8A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8434D24-CCAC-4727-A69B-2FB000F5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1F853FE-60FB-43C4-B8A6-760836CB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633466B-8BB6-4659-939D-6A9A65EC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BB6A55B-52BB-4405-A8B7-1C64A0A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9697563-0ADF-4E6D-8E0D-517548CD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7F55-81A8-4833-A475-3815E988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290864-434B-4119-8A95-66ACB025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2F7176-E4AD-44B8-A4DF-2B528663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0CD123-D3AD-4DE9-A640-7602FD0C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43CE48B-F24B-46A2-99AE-E1E4ED8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62E8CC1-A3BC-4F30-9CF1-C30238B5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F58846-C3B2-4427-9D58-D15FB81B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A77756-B5BD-4857-A883-6C9C9DB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1528BB-1FC5-4178-8260-6D31867A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EC255D-E142-41B9-9D5A-5E6A94C5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11DB5A-2AD3-44BE-9571-BC661F60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9409A-3429-4EEA-81C4-62108F9B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EC9105F-28A0-4194-8EEC-31E50F85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EE20A27-A6C1-428C-9CA0-4490FA3D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0CDDD8-DA72-4947-9ED4-85C28F3E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D61CB7-5BD3-4057-AAD1-395BAE32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2F0D64-3C28-413F-AD9E-5780E480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2E15652-689F-48A8-83D6-63593DBD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EC74CA-BFD4-4E8A-96F6-E6C78CD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FBD551-6FDC-4460-AE57-8566CFA9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CE7C30-38E8-4408-8AD9-CBAD76E0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324152D-FF78-4446-B75B-064764E6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2843E-AAC0-4E54-8619-66332CFE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4197DB2-0E1E-4BA6-9A82-A8695F2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6BB831-E8AF-4589-B07B-EE75D472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7E253CD-793E-4BCE-8186-CAF43ACB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7F564B-BE9F-43DF-AADE-6BCB4835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989E674-470F-4220-863E-68D3B18E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46626D-E047-4E5A-A0A2-F71290D3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987310-CE84-4674-BF89-F504DDD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64F659D-5A9A-4473-9CCF-9B9BD076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16609A-2433-47A8-BED4-72684C4B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CCF02E-5B9C-4736-B442-36C7CE16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B1411-2148-40AF-A8EE-9A002625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88FC4D1-D69C-47A9-9B98-9AF8E6CC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5E6916-7AF4-418C-ABFD-545BEA88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97C0BF8-F7BB-4929-8209-675E5C9A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8F410FD-31B6-4F7D-B063-4EB65C7B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1E25907-0C8C-4F16-986F-ED0AC606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3998DE-5D36-493F-A38F-19178B80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83AE5F1-CD92-4683-B9DF-1CDD0203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87AE365-7572-491C-B314-52413B4F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7C4779-85C5-48A7-9706-C11C4534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A6F1B93-7DBB-4F6E-B242-1581356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DE226-DAE4-4A6E-8F56-35AF9A6B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2A7B5DE-AD1F-4D7F-953A-224D81E5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4D4549-BC9F-44B1-B89A-7B23B88D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A4BD9D5-2E2F-47AE-837A-7B03A81C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C91EE-5478-4DF7-AAAD-04C918C3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5602B-E2F9-4DE7-A907-68FB199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EE929-9208-46FF-9300-466C8759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06FF7-2D1A-4733-B7C7-F7D20888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88-8EC5-4C0F-8663-DE842FD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A785F9-C370-495B-97DF-B7D5387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69101-B788-4703-9CAA-6A834889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071F2-A8D1-4726-82AF-5EA35CFB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C1BB5-07E1-483F-8242-2420E67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F265D-B9BD-455B-A51C-8DFF5203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6DC0E-86DD-46E3-818B-5A1C47A2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DF866-FBA6-4B1D-B2A2-C879BECD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4C0E5-BD00-4BF9-A182-548A09E2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4778D-039B-44CB-A7AB-4AE181D4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00F6A-DB57-4C4C-9E38-D4386984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C13-47D0-4368-836D-8BF3204E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C4C81-17C1-45CA-AF0A-DC5332C9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AB3EA9-CFF0-4E53-B18C-FDA0DAA6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5C6AA-B4D1-49CC-A5C5-035D7DB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8AC73A-672A-4198-8CDD-B92BF4D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332CB-0BE8-4D81-81FD-C57C5E2F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C9773-D94B-41A7-B0AD-BD4E2BC2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A7554-B647-4EBF-AC2E-E133818D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72F6F-D1AC-4704-814E-F257692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84CA60-8DD2-4D49-9693-DA2A9008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71E68-747A-4490-A6FF-304572D8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5B1-F003-4366-AF4D-1EE3C28B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02CC5-5E59-4F68-8862-2E766A48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94EE95-1662-45CB-83F4-6B95A563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8A2C4-9204-4070-A794-94234A7D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02872-A1E1-4B79-BE11-64626F62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84F78-A520-4318-89D6-62BECC3A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AE244-1E1F-487F-AF4F-A73F4E63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6BA26-C0EF-4C20-B3B5-96161CC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A0E25-657B-4584-BC2E-A1D16A0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E0B53-44F4-41A4-A313-FFA21E75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48B5D-9246-4946-8E0B-F6AD4E24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1B6-F4CE-44B9-AE47-4EBB1436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9F39D-B733-4460-AED3-C76144C2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5B459-B717-415C-A810-3F540B77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14C3CD-E3BA-40BB-AC4E-F8BB60D4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052B6-D3EC-4991-B5E7-DBCE86A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425CDD-019D-4DD0-B1A4-B04FD201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535D8-7D29-4164-A7C8-50B0DF2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BE2C2-578D-4F84-8487-5502197D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8201D-09C2-4C8C-AC65-B4BD3B8E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3962F-2291-41F0-8A2D-65281DB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6DE7D-3B81-473C-9E3D-CFCCE69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400-A9F3-49A7-9E69-CE7985F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089B0-F327-4F57-9258-C525F7E0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95F98C-8EC1-47F8-B162-226E4259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3BCA7-73E1-492D-A5E7-9321737E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7B6B1-8B67-4808-B67F-6BA5056B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F5CEE-3F64-4146-93D5-F8557CE7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77DF0-9E4D-4BCC-AFB1-F2A7BE0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F404E-DE3A-42A5-BD53-C83AE187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D880B-CB1F-40FA-B826-C608F628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DF103-F5A2-4F08-8899-9B038A8C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1175F-C378-4557-B30E-79582749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547-D613-4BF1-9C49-1ADD09C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31CF2-EDF6-42D5-9AAF-4A27B388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3729DF-6CAC-43CC-9730-A5A1B37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3B07E-00FC-4ADF-9CA0-9BC80F1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44E784-57A1-4EFE-87EC-45D56222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297A9-53E0-4EF1-A7DA-2F921047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28427-83F3-48BE-AB27-9366229C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DB5D16-DF67-4CB2-87BC-4CF2F7D4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A97AD4-26E8-40E1-ACCE-B387EE6A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41D52A-9B1F-407A-89FA-573BC50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1A1E7A-BFAC-46AE-B474-A1736DBE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EA3-8813-4A8B-A707-D4BC1C7D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26F520-96B0-4385-8BDB-7417C423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74B992-5FF9-4614-B441-904C0629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27B42-B00C-4A2B-B832-7ABB4794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F197C-18F5-4ABE-B1A2-C5675093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61CF5-B77F-4261-9EE9-91DA78C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6014A1-F728-4B20-92DF-8ED8537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C57C21-A276-44F4-AD4B-2CC5FDE8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38670-55F9-4A66-8AD0-223AC5B8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74B90C-17F9-443B-A8DD-2DF78405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97A741-A01D-4C7D-A0D3-3DB0E93D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C2C1-988C-4849-AC91-12AEFF07F5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BF0A-43E5-454E-81BF-9DC047F1FB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7235-A383-4565-AFC7-EADE03EA0C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0293-6388-4D7A-B066-3AE7AA62C0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065-3BCF-4F4A-AD5C-FDFABA68A6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B180-F742-41BE-919B-5D19C164EE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7320-04DB-40AB-ACEC-FE8D6546CA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6558-574E-402A-94F8-FD7B0C34EE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089C-E7FA-4BEB-BFE4-1463F2BBB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880-0E64-4E65-851F-0431F5111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E1B7-1EF7-4035-995B-B7EC10D076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9DC-D598-42CB-AD4E-3969A5AF7A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D16-6DDA-41CF-873F-FAD7C9EC30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9D8-14E0-4F8E-B6A2-2A02D50FF7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E2DD-1E39-4D51-994E-C1481D92EC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3CD2-F5D3-4870-96DC-31F68B077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94D1-9830-48FF-BB47-133BC2723F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10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2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D840-F594-4F46-8B26-FEB7E2B2B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E2EF-7962-4F12-937E-47D02F770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3D1-8B1F-45CC-AAAA-D502AF3D1D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8924-CA00-4079-B041-96DD2EB1B8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295.imageshack.us/img295/9094/pa1024vu.jpg&amp;imgrefurl=http://arianne.blogdrive.com/&amp;h=427&amp;w=640&amp;sz=38&amp;hl=es&amp;start=9&amp;um=1&amp;usg=__MQCxjJqXlAiC2d9RCyfh7ogH5Xg=&amp;tbnid=C10VHOggF5jg-M:&amp;tbnh=91&amp;tbnw=137&amp;prev=/images?q=girasoles&amp;um=1&amp;hl=es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nes.infojardin.com/subida/images/arx1204497536i.jpg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com/imgres?imgurl=http://www.psoe.es/media/000000126000/000000126483.jpg&amp;imgrefurl=http://www.psoe.es/ambito/saladeprensa/news/index.do?action=View&amp;id=189349&amp;h=304&amp;w=304&amp;sz=56&amp;hl=es&amp;start=10&amp;um=1&amp;usg=__SeBcT9OAgfNVU_kZcSxQBHp75ZA=&amp;tbnid=McUg2gpjG70BwM:&amp;tbnh=116&amp;tbnw=116&amp;prev=/images?q=aceite+de+girasol&amp;um=1&amp;hl=es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09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ticulos.infojardin.com/Frutales/fichas/foto-frutales/olea-europaea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tucocinaytu.com/files/aceituna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www.avantari.com/images/aceite%20de%20oliva.jpg" TargetMode="External"/><Relationship Id="rId6" Type="http://schemas.openxmlformats.org/officeDocument/2006/relationships/image" Target="../media/image31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09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sino770.com/es/blog/blogs/media/blogs/blog%20770%20sp/Uvas2.jpg&amp;imgrefurl=http://www.casino770.com/es/blog/blogs/index.php?blog=1&amp;m=200712&amp;h=378&amp;w=307&amp;sz=27&amp;hl=es&amp;start=2&amp;um=1&amp;usg=__Qa1Vd8XHPhknmcMveKNQU47sA_8=&amp;tbnid=VzzDErfgdeZXKM:&amp;tbnh=122&amp;tbnw=99&amp;prev=/images?q=uvas&amp;um=1&amp;hl=es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s.google.com/imgres?imgurl=http://blogs.larioja.com/blogfiles/palabras/S_IMG_0382.JPG&amp;imgrefurl=http://blogs.larioja.com/palabras/tags/vid&amp;h=388&amp;w=518&amp;sz=51&amp;hl=es&amp;start=16&amp;um=1&amp;usg=__RIdvTV3JcfDaninkm27r2lDuHAk=&amp;tbnid=bFApiY8Iwn8JrM:&amp;tbnh=98&amp;tbnw=131&amp;prev=/images?q=la+vid&amp;um=1&amp;hl=es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google.com/imgres?imgurl=http://www.enjoy-chile.org/chile-pictures/master/chile/vi_bernardo_ohggins/ruta_del_vino_006.jpg&amp;imgrefurl=http://www.enjoy-chile.org/chile-pictures/spanish/santiago_de_chile-ruta_del_vino-ruta_del_vino_006.php&amp;h=450&amp;w=294&amp;sz=49&amp;hl=es&amp;start=12&amp;um=1&amp;usg=__YD28WJ3OAj3qhg_fFp5yUBko6fs=&amp;tbnid=dhdH90OssxTAWM:&amp;tbnh=127&amp;tbnw=83&amp;prev=/images?q=vino&amp;um=1&amp;hl=es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images.google.com/imgres?imgurl=http://www.tecnofin.com.mx/regalos-orsini/assets/product_images/BIG/WC013.jpg&amp;imgrefurl=http://www.tecnofin.com.mx/regalos-orsini/TVT.asp?TVTP=display&amp;pf_id=N07138&amp;mscssid=D52E6CB749E8B31&amp;h=383&amp;w=369&amp;sz=81&amp;hl=es&amp;start=3&amp;um=1&amp;usg=__gLxiEjtIMp4R5s-aU5lvP8wmEqg=&amp;tbnid=i7vEoDW8rxLUtM:&amp;tbnh=123&amp;tbnw=119&amp;prev=/images?q=conac&amp;um=1&amp;hl=es" TargetMode="External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09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odosviajes.com/wp/wp-content/uploads/2008/07/selva.jpg&amp;imgrefurl=http://todosviajes.com/peru-bosques-amazonicos-en-la-ciudad-de-iquitos-en-peru/&amp;h=300&amp;w=400&amp;sz=55&amp;hl=es&amp;start=4&amp;um=1&amp;usg=__OybtkJrplMRe1J51x2t9tZmA0zc=&amp;tbnid=FQE0Wjj_I8Y7YM:&amp;tbnh=93&amp;tbnw=124&amp;prev=/images?q=selva&amp;um=1&amp;hl=es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s.google.com/imgres?imgurl=http://www.thetouristtravel.com/archivos_subidos/Image/ASIA/Brunei/2jungla.jpg&amp;imgrefurl=http://www.thetouristtravel.com/destino/ver.destino.php?arbol=lugar&amp;idcategoria=2539&amp;PHPSESSID=5bbf&amp;h=284&amp;w=270&amp;sz=36&amp;hl=es&amp;start=2&amp;um=1&amp;usg=__liJfq-ctiJtUKD7kqlCrxVbNUho=&amp;tbnid=OeIQfRXiosGfvM:&amp;tbnh=114&amp;tbnw=108&amp;prev=/images?q=jungla&amp;um=1&amp;hl=es" TargetMode="External"/><Relationship Id="rId4" Type="http://schemas.openxmlformats.org/officeDocument/2006/relationships/image" Target="../media/image38.jpeg"/><Relationship Id="rId5" Type="http://schemas.openxmlformats.org/officeDocument/2006/relationships/hyperlink" Target="http://www.superchicos.net/madagascar1588.jpg" TargetMode="External"/><Relationship Id="rId6" Type="http://schemas.openxmlformats.org/officeDocument/2006/relationships/image" Target="../media/image39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09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redimin.conicyt.cl/portada/minero.gif&amp;imgrefurl=http://redimin.conicyt.cl/portada/1pagina.html&amp;h=515&amp;w=406&amp;sz=105&amp;hl=es&amp;start=25&amp;um=1&amp;usg=__NfwaFfL7A2R_3cDwxlPMROLZIYI=&amp;tbnid=MQxRVcs_GmmwDM:&amp;tbnh=131&amp;tbnw=103&amp;prev=/images?q=mineria&amp;start=20&amp;ndsp=20&amp;um=1&amp;hl=es&amp;sa=N" TargetMode="External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www.southernmarinebrokers.com.au/images/link.jpg&amp;imgrefurl=http://www.southernmarinebrokers.com.au/links.html&amp;h=320&amp;w=320&amp;sz=86&amp;hl=es&amp;start=20&amp;usg=__hPuoptew5xZVAvFhec-LtGYslbQ=&amp;tbnid=NlmSij8-oWQ7iM:&amp;tbnh=118&amp;tbnw=118&amp;prev=/images?q=fishing+industry&amp;gbv=2&amp;hl=es" TargetMode="External"/><Relationship Id="rId4" Type="http://schemas.openxmlformats.org/officeDocument/2006/relationships/image" Target="../media/image41.jpeg"/><Relationship Id="rId5" Type="http://schemas.openxmlformats.org/officeDocument/2006/relationships/hyperlink" Target="http://images.google.com/imgres?imgurl=http://www.eivissaweb.com/portal/img/noticies/4444/agricultura-2.jpg&amp;imgrefurl=http://www.eivissaweb.com/noticias/2005/09/incremento-agricultura-ganaderia-ecologicas/&amp;h=320&amp;w=300&amp;sz=73&amp;hl=es&amp;start=2&amp;um=1&amp;usg=__44_fb_JeuOnBhFLZ3zokWSa5zpU=&amp;tbnid=iqOc-IMtjX4ZCM:&amp;tbnh=118&amp;tbnw=111&amp;prev=/images?q=agricultura&amp;um=1&amp;hl=es" TargetMode="External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93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dvsa.com/lexico/museo/minerales/image/carbon.gif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news.soliclima.com/imatges/08_04/gas.jpg&amp;imgrefurl=http://www.pircasnegras.com/2008/09/catamarca-slo-el-197-por-ciento-de-la.html?widgetType=BlogArchive&amp;widgetId=BlogArchive1&amp;action=toggle&amp;dir=close&amp;toggle=DAILY-1221969600000&amp;toggleopen=DAILY-1221969600000&amp;h=379&amp;w=400&amp;sz=62&amp;hl=es&amp;start=4&amp;usg=__Bk2zFFBZ9AMHyAAEaOz4MNvuuRw=&amp;tbnid=fQ7V45NwqBSSiM:&amp;tbnh=117&amp;tbnw=124&amp;prev=/images?q=gas+natural&amp;gbv=2&amp;hl=es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inta.gov.ar/concordia/info/galeria/forestales/Madera-procesada-w.jpg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dynamic.es/02/images_textures/textura_HIERRO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carmenvidal.files.wordpress.com/2008/03/plomo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hiperfauna.com/programa/images/comedero%20acero%20inox.%2028%20cm.jpg&amp;imgrefurl=http://www.hiperfauna.com/programa/index.php?cPath=227_113_211&amp;h=275&amp;w=356&amp;sz=36&amp;hl=es&amp;start=4&amp;usg=__hcDguPCXdN_eBOnBmY85lqZnm4E=&amp;tbnid=boqWAYaMFGRrYM:&amp;tbnh=93&amp;tbnw=121&amp;prev=/images?q=acero&amp;gbv=2&amp;hl=es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tucava.es/fotos/etiquetas/etiquetas%20estano/etiqueta%20estano%201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rujillodi.files.wordpress.com/2008/06/oro-foto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animalsculpture.co.uk/Chocolate%20Labrador%20Bronze%20head%202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abadsegura.com/tienda/monedas/plata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ndows.ucar.edu/physical_science/chemistry/o2_molecule_sm.gif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bp0.blogger.com/_vRGabQs66ho/R_JwkHkUG1I/AAAAAAAAAY8/1ABS0vz1D30/s320/Azufre+2.JPG&amp;imgrefurl=http://presentacionespp.blogspot.com/2008/04/azufre-s.html&amp;h=240&amp;w=320&amp;sz=21&amp;hl=es&amp;start=58&amp;um=1&amp;usg=__3OLphdZnEdd5hdyNEm3lajv3p48=&amp;tbnid=8YHSt50GAOO_0M:&amp;tbnh=89&amp;tbnw=118&amp;prev=/images?q=azufre&amp;start=40&amp;ndsp=20&amp;um=1&amp;hl=es&amp;sa=N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tiemposfuturos.es/Imagenes/Atomo_Hidrogeno.jpg&amp;imgrefurl=http://www.tiemposfuturos.es/opinionConvirtamonosEnSal.htm&amp;h=388&amp;w=385&amp;sz=25&amp;hl=es&amp;start=2&amp;um=1&amp;usg=__JEuSAfH9acSSODiepMyOcgmQKuE=&amp;tbnid=iDSlLb6GOeirdM:&amp;tbnh=123&amp;tbnw=122&amp;prev=/images?q=hidrogeno&amp;um=1&amp;hl=es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arteonline.com/Alejandra_Gonzalez_Soca/Altas/Torso_marmol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imagecache2.allposters.com/images/pic/ARG/20692~Pulses-and-Grains-Posters.jpg" TargetMode="External"/><Relationship Id="rId3" Type="http://schemas.openxmlformats.org/officeDocument/2006/relationships/image" Target="../media/image21.jpeg"/><Relationship Id="rId4" Type="http://schemas.openxmlformats.org/officeDocument/2006/relationships/hyperlink" Target="http://blog.educastur.es/aula/files/2007/06/frutas.jpg" TargetMode="External"/><Relationship Id="rId5" Type="http://schemas.openxmlformats.org/officeDocument/2006/relationships/image" Target="../media/image22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tatic.consumer.es/www/imgs/2007/01/el_cerdo.jpg&amp;imgrefurl=http://www.consumer.es/web/es/alimentacion/en_la_cocina/alimentos_de_temporada/2006/11/06/156963.php&amp;h=225&amp;w=221&amp;sz=14&amp;hl=es&amp;start=8&amp;um=1&amp;usg=__StrViQRmcJHG97ppP4N47q3iBlQ=&amp;tbnid=iv7a7F3lXNVQIM:&amp;tbnh=108&amp;tbnw=106&amp;prev=/images?q=el+cerdo&amp;um=1&amp;hl=es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com/imgres?imgurl=http://www.accionchilena.cl/images/Res%20Publica.jpg&amp;imgrefurl=http://www.accionchilena.cl/Doctrina/Individualismo%20versus%20Altruismo.aspx&amp;h=331&amp;w=481&amp;sz=33&amp;hl=es&amp;start=2&amp;um=1&amp;usg=__WYzv3mI-ZbEMZcnGTgQTmAcwy1A=&amp;tbnid=f5tXihZMtXeKKM:&amp;tbnh=89&amp;tbnw=129&amp;prev=/images?q=res&amp;um=1&amp;hl=es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images.google.com/imgres?imgurl=http://www.chubut.gov.ar/dgag/imagenes/ternera.jpg&amp;imgrefurl=http://www.chubut.gov.ar/dgag/archives/029443.php?id=-1&amp;h=288&amp;w=369&amp;sz=46&amp;hl=es&amp;start=3&amp;um=1&amp;usg=__ZfnF7V-outOw6xYVt2XMZzWSrm4=&amp;tbnid=7J1CcXpJScKcZM:&amp;tbnh=95&amp;tbnw=122&amp;prev=/images?q=ternera&amp;um=1&amp;hl=es" TargetMode="External"/><Relationship Id="rId6" Type="http://schemas.openxmlformats.org/officeDocument/2006/relationships/image" Target="../media/image25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228600" y="5467320"/>
            <a:ext cx="8672400" cy="1238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Los Recursos Naturales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j0178459.jpg" descr=""/>
          <p:cNvPicPr/>
          <p:nvPr/>
        </p:nvPicPr>
        <p:blipFill>
          <a:blip r:embed="rId1"/>
          <a:srcRect l="6260" t="0" r="6260" b="0"/>
          <a:stretch/>
        </p:blipFill>
        <p:spPr>
          <a:xfrm>
            <a:off x="228600" y="152280"/>
            <a:ext cx="6858000" cy="5238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/>
          </p:nvPr>
        </p:nvSpPr>
        <p:spPr>
          <a:xfrm rot="16200000">
            <a:off x="5371920" y="2247840"/>
            <a:ext cx="5181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 GIRASOL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6" name="~PP1522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228240" y="434340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s girasol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2895120" y="44953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as pipa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714640" y="419112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 aceite de giraso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03" name="Picture 6" descr="http://tbn0.google.com/images?q=tbn:C10VHOggF5jg-M:http://img295.imageshack.us/img295/9094/pa1024vu.jpg">
            <a:hlinkClick r:id="rId1"/>
          </p:cNvPr>
          <p:cNvPicPr/>
          <p:nvPr/>
        </p:nvPicPr>
        <p:blipFill>
          <a:blip r:embed="rId2"/>
          <a:srcRect l="25103" t="0" r="25103" b="0"/>
          <a:stretch/>
        </p:blipFill>
        <p:spPr>
          <a:xfrm>
            <a:off x="228600" y="723960"/>
            <a:ext cx="2400480" cy="32004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04" name="Picture 10" descr="http://tbn0.google.com/images?q=tbn:Xcxr0QouazZWBM:http://imagenes.infojardin.com/subida/images/arx1204497536i.jpg">
            <a:hlinkClick r:id="rId3"/>
          </p:cNvPr>
          <p:cNvPicPr/>
          <p:nvPr/>
        </p:nvPicPr>
        <p:blipFill>
          <a:blip r:embed="rId4"/>
          <a:srcRect l="21821" t="0" r="21821" b="0"/>
          <a:stretch/>
        </p:blipFill>
        <p:spPr>
          <a:xfrm>
            <a:off x="2971800" y="685800"/>
            <a:ext cx="2400480" cy="32004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05" name="Picture 12" descr="http://tbn0.google.com/images?q=tbn:McUg2gpjG70BwM:http://www.psoe.es/media/000000126000/000000126483.jpg">
            <a:hlinkClick r:id="rId5"/>
          </p:cNvPr>
          <p:cNvPicPr/>
          <p:nvPr/>
        </p:nvPicPr>
        <p:blipFill>
          <a:blip r:embed="rId6"/>
          <a:srcRect l="12512" t="0" r="12512" b="0"/>
          <a:stretch/>
        </p:blipFill>
        <p:spPr>
          <a:xfrm>
            <a:off x="5791320" y="685800"/>
            <a:ext cx="2400120" cy="32004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06" name="~PP428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0" y="3886200"/>
            <a:ext cx="2362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os olivo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971440" y="419112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as aceituna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943240" y="388620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 aceite de oliv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10" name="Picture 2" descr="http://tbn0.google.com/images?q=tbn:vCs_xbPRBwo2NM:http://articulos.infojardin.com/Frutales/fichas/foto-frutales/olea-europaea.jpg">
            <a:hlinkClick r:id="rId1"/>
          </p:cNvPr>
          <p:cNvPicPr/>
          <p:nvPr/>
        </p:nvPicPr>
        <p:blipFill>
          <a:blip r:embed="rId2"/>
          <a:srcRect l="19541" t="0" r="19541" b="0"/>
          <a:stretch/>
        </p:blipFill>
        <p:spPr>
          <a:xfrm>
            <a:off x="304920" y="1219320"/>
            <a:ext cx="1914480" cy="25527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11" name="Picture 4" descr="http://tbn0.google.com/images?q=tbn:3lfWgcqntuh1mM:http://www.tucocinaytu.com/files/aceituna.jpg">
            <a:hlinkClick r:id="rId3"/>
          </p:cNvPr>
          <p:cNvPicPr/>
          <p:nvPr/>
        </p:nvPicPr>
        <p:blipFill>
          <a:blip r:embed="rId4"/>
          <a:srcRect l="9397" t="0" r="9397" b="0"/>
          <a:stretch/>
        </p:blipFill>
        <p:spPr>
          <a:xfrm>
            <a:off x="3200400" y="990720"/>
            <a:ext cx="2171880" cy="28954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12" name="Picture 6" descr="http://tbn0.google.com/images?q=tbn:rmZyjzop6AIPwM:http://www.avantari.com/images/aceite%2520de%2520oliva.jpg">
            <a:hlinkClick r:id="rId5"/>
          </p:cNvPr>
          <p:cNvPicPr/>
          <p:nvPr/>
        </p:nvPicPr>
        <p:blipFill>
          <a:blip r:embed="rId6"/>
          <a:srcRect l="0" t="3155" r="0" b="3155"/>
          <a:stretch/>
        </p:blipFill>
        <p:spPr>
          <a:xfrm>
            <a:off x="6095880" y="1219320"/>
            <a:ext cx="1828800" cy="24382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13" name="~PP830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0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-360" y="28951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as uva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666520" y="28191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a vid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334120" y="2819160"/>
            <a:ext cx="2590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 vino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94920" y="5943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a sidr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191120" y="6019560"/>
            <a:ext cx="2590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El coñac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19" name="Picture 2" descr="http://tbn0.google.com/images?q=tbn:VzzDErfgdeZXKM:http://www.casino770.com/es/blog/blogs/media/blogs/blog%2520770%2520sp/Uvas2.jpg">
            <a:hlinkClick r:id="rId1"/>
          </p:cNvPr>
          <p:cNvPicPr/>
          <p:nvPr/>
        </p:nvPicPr>
        <p:blipFill>
          <a:blip r:embed="rId2"/>
          <a:srcRect l="3780" t="0" r="3780" b="0"/>
          <a:stretch/>
        </p:blipFill>
        <p:spPr>
          <a:xfrm>
            <a:off x="304920" y="304920"/>
            <a:ext cx="1885680" cy="2514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0" name="Picture 4" descr="http://tbn0.google.com/images?q=tbn:bFApiY8Iwn8JrM:http://blogs.larioja.com/blogfiles/palabras/S_IMG_0382.JPG">
            <a:hlinkClick r:id="rId3"/>
          </p:cNvPr>
          <p:cNvPicPr/>
          <p:nvPr/>
        </p:nvPicPr>
        <p:blipFill>
          <a:blip r:embed="rId4"/>
          <a:srcRect l="21956" t="0" r="21956" b="0"/>
          <a:stretch/>
        </p:blipFill>
        <p:spPr>
          <a:xfrm>
            <a:off x="3124080" y="380880"/>
            <a:ext cx="1714680" cy="2286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1" name="Picture 6" descr="http://tbn0.google.com/images?q=tbn:dhdH90OssxTAWM:http://www.enjoy-chile.org/chile-pictures/master/chile/vi_bernardo_ohggins/ruta_del_vino_006.jpg">
            <a:hlinkClick r:id="rId5"/>
          </p:cNvPr>
          <p:cNvPicPr/>
          <p:nvPr/>
        </p:nvPicPr>
        <p:blipFill>
          <a:blip r:embed="rId6"/>
          <a:srcRect l="0" t="6429" r="0" b="6429"/>
          <a:stretch/>
        </p:blipFill>
        <p:spPr>
          <a:xfrm>
            <a:off x="5715000" y="380880"/>
            <a:ext cx="1676520" cy="2235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2" name="Picture 10" descr="http://tbn0.google.com/images?q=tbn:i7vEoDW8rxLUtM:http://www.tecnofin.com.mx/regalos-orsini/assets/product_images/BIG/WC013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8320" y="4114800"/>
            <a:ext cx="1622160" cy="16765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" descr="http://www.hotelcasonatresali.com/content/sidra.jpg"/>
          <p:cNvPicPr/>
          <p:nvPr/>
        </p:nvPicPr>
        <p:blipFill>
          <a:blip r:embed="rId9"/>
          <a:stretch/>
        </p:blipFill>
        <p:spPr>
          <a:xfrm>
            <a:off x="1905120" y="3886200"/>
            <a:ext cx="1523880" cy="2057400"/>
          </a:xfrm>
          <a:prstGeom prst="rect">
            <a:avLst/>
          </a:prstGeom>
          <a:ln w="0">
            <a:noFill/>
          </a:ln>
        </p:spPr>
      </p:pic>
      <p:pic>
        <p:nvPicPr>
          <p:cNvPr id="1024" name="~PP1888.WAV" descr=""/>
          <p:cNvPicPr/>
          <p:nvPr/>
        </p:nvPicPr>
        <p:blipFill>
          <a:blip r:embed="rId10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/>
          </p:nvPr>
        </p:nvSpPr>
        <p:spPr>
          <a:xfrm>
            <a:off x="-360" y="3276720"/>
            <a:ext cx="2590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 selv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 humedad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895120" y="35809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 jungl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714640" y="3580920"/>
            <a:ext cx="2590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os animales salvaj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028" name="Picture 2" descr="http://tbn0.google.com/images?q=tbn:FQE0Wjj_I8Y7YM:http://todosviajes.com/wp/wp-content/uploads/2008/07/selva.jpg">
            <a:hlinkClick r:id="rId1"/>
          </p:cNvPr>
          <p:cNvPicPr/>
          <p:nvPr/>
        </p:nvPicPr>
        <p:blipFill>
          <a:blip r:embed="rId2"/>
          <a:srcRect l="21884" t="0" r="21884" b="0"/>
          <a:stretch/>
        </p:blipFill>
        <p:spPr>
          <a:xfrm>
            <a:off x="609480" y="914400"/>
            <a:ext cx="1571760" cy="20955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29" name="Picture 4" descr="http://tbn0.google.com/images?q=tbn:OeIQfRXiosGfvM:http://www.thetouristtravel.com/archivos_subidos/Image/ASIA/Brunei/2jungla.jpg">
            <a:hlinkClick r:id="rId3"/>
          </p:cNvPr>
          <p:cNvPicPr/>
          <p:nvPr/>
        </p:nvPicPr>
        <p:blipFill>
          <a:blip r:embed="rId4"/>
          <a:srcRect l="10427" t="0" r="10427" b="0"/>
          <a:stretch/>
        </p:blipFill>
        <p:spPr>
          <a:xfrm>
            <a:off x="3162240" y="723960"/>
            <a:ext cx="1971720" cy="26287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0" name="Picture 8" descr="http://tbn0.google.com/images?q=tbn:g6P1J5Ci8bgWnM:http://www.superchicos.net/madagascar1588.jpg">
            <a:hlinkClick r:id="rId5"/>
          </p:cNvPr>
          <p:cNvPicPr/>
          <p:nvPr/>
        </p:nvPicPr>
        <p:blipFill>
          <a:blip r:embed="rId6"/>
          <a:srcRect l="27451" t="0" r="27451" b="0"/>
          <a:stretch/>
        </p:blipFill>
        <p:spPr>
          <a:xfrm>
            <a:off x="6019920" y="990720"/>
            <a:ext cx="1714320" cy="2286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1" name="~PP2727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0" descr="http://tbn0.google.com/images?q=tbn:MQxRVcs_GmmwDM:http://redimin.conicyt.cl/portada/minero.gif">
            <a:hlinkClick r:id="rId1"/>
          </p:cNvPr>
          <p:cNvPicPr/>
          <p:nvPr/>
        </p:nvPicPr>
        <p:blipFill>
          <a:blip r:embed="rId2"/>
          <a:srcRect l="7853" t="0" r="7853" b="0"/>
          <a:stretch/>
        </p:blipFill>
        <p:spPr>
          <a:xfrm>
            <a:off x="228600" y="3429000"/>
            <a:ext cx="2133720" cy="32194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3" name="Picture 22" descr="http://tbn0.google.com/images?q=tbn:NlmSij8-oWQ7iM:http://www.southernmarinebrokers.com.au/images/link.jpg">
            <a:hlinkClick r:id="rId3"/>
          </p:cNvPr>
          <p:cNvPicPr/>
          <p:nvPr/>
        </p:nvPicPr>
        <p:blipFill>
          <a:blip r:embed="rId4"/>
          <a:srcRect l="0" t="12492" r="0" b="12492"/>
          <a:stretch/>
        </p:blipFill>
        <p:spPr>
          <a:xfrm>
            <a:off x="2438280" y="914400"/>
            <a:ext cx="5562720" cy="41720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4" name="Picture 12" descr="http://tbn0.google.com/images?q=tbn:iqOc-IMtjX4ZCM:http://www.eivissaweb.com/portal/img/noticies/4444/agricultura-2.jpg">
            <a:hlinkClick r:id="rId5"/>
          </p:cNvPr>
          <p:cNvPicPr/>
          <p:nvPr/>
        </p:nvPicPr>
        <p:blipFill>
          <a:blip r:embed="rId6"/>
          <a:srcRect l="0" t="14734" r="0" b="14734"/>
          <a:stretch/>
        </p:blipFill>
        <p:spPr>
          <a:xfrm>
            <a:off x="2438280" y="4419720"/>
            <a:ext cx="2819520" cy="20574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5" name="Picture 14" descr="http://tbn0.google.com/images?q=tbn:ROjhOvnbJWt4YM:http://www.cormabiobio.cl/boletin/pbef/imagenes/industria%2520maderera.jpg"/>
          <p:cNvPicPr/>
          <p:nvPr/>
        </p:nvPicPr>
        <p:blipFill>
          <a:blip r:embed="rId7"/>
          <a:srcRect l="2176" t="0" r="2176" b="0"/>
          <a:stretch/>
        </p:blipFill>
        <p:spPr>
          <a:xfrm>
            <a:off x="5257800" y="4419720"/>
            <a:ext cx="2743200" cy="20574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036" name="Picture 6" descr="http://tbn0.google.com/images?q=tbn:sUDbsI5OughftM:http://www.sanfernando.gob.mx/2005/images_int/ganaderia.jpg"/>
          <p:cNvPicPr/>
          <p:nvPr/>
        </p:nvPicPr>
        <p:blipFill>
          <a:blip r:embed="rId8"/>
          <a:srcRect l="0" t="3005" r="0" b="3005"/>
          <a:stretch/>
        </p:blipFill>
        <p:spPr>
          <a:xfrm>
            <a:off x="228600" y="228600"/>
            <a:ext cx="2070000" cy="3124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37" name="TextBox 6"/>
          <p:cNvSpPr/>
          <p:nvPr/>
        </p:nvSpPr>
        <p:spPr>
          <a:xfrm>
            <a:off x="5867280" y="403848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PES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8"/>
          <p:cNvSpPr/>
          <p:nvPr/>
        </p:nvSpPr>
        <p:spPr>
          <a:xfrm>
            <a:off x="0" y="228600"/>
            <a:ext cx="800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Arial Black"/>
              </a:rPr>
              <a:t>LAS INDUSTRI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Box 9"/>
          <p:cNvSpPr/>
          <p:nvPr/>
        </p:nvSpPr>
        <p:spPr>
          <a:xfrm>
            <a:off x="228600" y="304812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GANAD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10"/>
          <p:cNvSpPr/>
          <p:nvPr/>
        </p:nvSpPr>
        <p:spPr>
          <a:xfrm>
            <a:off x="228600" y="624852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MINERÍ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Box 12"/>
          <p:cNvSpPr/>
          <p:nvPr/>
        </p:nvSpPr>
        <p:spPr>
          <a:xfrm>
            <a:off x="5791320" y="6095880"/>
            <a:ext cx="2133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. MADER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Box 11"/>
          <p:cNvSpPr/>
          <p:nvPr/>
        </p:nvSpPr>
        <p:spPr>
          <a:xfrm>
            <a:off x="3124080" y="609588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AGRI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3" name="~PP2624.WAV" descr=""/>
          <p:cNvPicPr/>
          <p:nvPr/>
        </p:nvPicPr>
        <p:blipFill>
          <a:blip r:embed="rId9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5105520" y="228240"/>
            <a:ext cx="3200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AS MATERIAS PRIMA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8" name="Picture 2" descr="http://tbn0.google.com/images?q=tbn:I-NmygH2RU4AkM:http://www.pdvsa.com/lexico/museo/minerales/image/carbon.gif">
            <a:hlinkClick r:id="rId1"/>
          </p:cNvPr>
          <p:cNvPicPr/>
          <p:nvPr/>
        </p:nvPicPr>
        <p:blipFill>
          <a:blip r:embed="rId2"/>
          <a:srcRect l="23618" t="0" r="23618" b="0"/>
          <a:stretch/>
        </p:blipFill>
        <p:spPr>
          <a:xfrm>
            <a:off x="304920" y="228600"/>
            <a:ext cx="1295280" cy="17226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939" name="TextBox 5"/>
          <p:cNvSpPr/>
          <p:nvPr/>
        </p:nvSpPr>
        <p:spPr>
          <a:xfrm>
            <a:off x="22860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 carb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0" name="Picture 6" descr="http://tbn0.google.com/images?q=tbn:fQ7V45NwqBSSiM:http://news.soliclima.com/imatges/08_04/ga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990720"/>
            <a:ext cx="1981080" cy="1869840"/>
          </a:xfrm>
          <a:prstGeom prst="rect">
            <a:avLst/>
          </a:prstGeom>
          <a:ln w="0">
            <a:noFill/>
          </a:ln>
        </p:spPr>
      </p:pic>
      <p:sp>
        <p:nvSpPr>
          <p:cNvPr id="941" name="TextBox 8"/>
          <p:cNvSpPr/>
          <p:nvPr/>
        </p:nvSpPr>
        <p:spPr>
          <a:xfrm>
            <a:off x="1905120" y="3048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 gas natu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TextBox 9"/>
          <p:cNvSpPr/>
          <p:nvPr/>
        </p:nvSpPr>
        <p:spPr>
          <a:xfrm>
            <a:off x="228600" y="5181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 petról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3" name="Picture 8" descr="http://www.yamada-diaphragm-pump.com/images/petroleum_pumps.jpg"/>
          <p:cNvPicPr/>
          <p:nvPr/>
        </p:nvPicPr>
        <p:blipFill>
          <a:blip r:embed="rId5"/>
          <a:stretch/>
        </p:blipFill>
        <p:spPr>
          <a:xfrm>
            <a:off x="380880" y="3200400"/>
            <a:ext cx="1471680" cy="1905120"/>
          </a:xfrm>
          <a:prstGeom prst="rect">
            <a:avLst/>
          </a:prstGeom>
          <a:ln w="0">
            <a:noFill/>
          </a:ln>
        </p:spPr>
      </p:pic>
      <p:sp>
        <p:nvSpPr>
          <p:cNvPr id="944" name="TextBox 12"/>
          <p:cNvSpPr/>
          <p:nvPr/>
        </p:nvSpPr>
        <p:spPr>
          <a:xfrm>
            <a:off x="2286000" y="5257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 mad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5" name="Picture 10" descr="http://tbn0.google.com/images?q=tbn:5p_ysXMRILVGiM:http://www.inta.gov.ar/concordia/info/galeria/forestales/Madera-procesada-w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0" y="3809880"/>
            <a:ext cx="1752480" cy="1322640"/>
          </a:xfrm>
          <a:prstGeom prst="rect">
            <a:avLst/>
          </a:prstGeom>
          <a:ln w="0">
            <a:noFill/>
          </a:ln>
        </p:spPr>
      </p:pic>
      <p:pic>
        <p:nvPicPr>
          <p:cNvPr id="946" name="~PP750.WAV" descr=""/>
          <p:cNvPicPr/>
          <p:nvPr/>
        </p:nvPicPr>
        <p:blipFill>
          <a:blip r:embed="rId8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1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5105520" y="228600"/>
            <a:ext cx="3200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OS MINERAL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 MINERĺ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S PIEDRAS PRECIOSA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os diamante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as esmeraldas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8" name="Picture 3" descr=""/>
          <p:cNvPicPr/>
          <p:nvPr/>
        </p:nvPicPr>
        <p:blipFill>
          <a:blip r:embed="rId1"/>
          <a:srcRect l="12416" t="0" r="12416" b="0"/>
          <a:stretch/>
        </p:blipFill>
        <p:spPr>
          <a:xfrm>
            <a:off x="304920" y="228600"/>
            <a:ext cx="4754520" cy="6324480"/>
          </a:xfrm>
          <a:prstGeom prst="rect">
            <a:avLst/>
          </a:prstGeom>
          <a:ln w="0">
            <a:noFill/>
          </a:ln>
        </p:spPr>
      </p:pic>
      <p:pic>
        <p:nvPicPr>
          <p:cNvPr id="949" name="~PP372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5105520" y="2282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OS METALES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1" name="Picture 2" descr="http://tbn0.google.com/images?q=tbn:I3gDVZXxy5Z_SM:http://www.dynamic.es/02/images_textures/textura_HIERRO.jpg">
            <a:hlinkClick r:id="rId1"/>
          </p:cNvPr>
          <p:cNvPicPr/>
          <p:nvPr/>
        </p:nvPicPr>
        <p:blipFill>
          <a:blip r:embed="rId2"/>
          <a:srcRect l="21882" t="0" r="21882" b="0"/>
          <a:stretch/>
        </p:blipFill>
        <p:spPr>
          <a:xfrm>
            <a:off x="457200" y="228600"/>
            <a:ext cx="1447920" cy="1925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52" name="Picture 4" descr="http://tbn0.google.com/images?q=tbn:TTOiUXl-Lq65sM:http://carmenvidal.files.wordpress.com/2008/03/plom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685800"/>
            <a:ext cx="1646280" cy="15717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6" descr="http://tbn0.google.com/images?q=tbn:boqWAYaMFGRrYM:http://www.hiperfauna.com/programa/images/comedero%2520acero%2520inox.%252028%2520c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3429000"/>
            <a:ext cx="1784160" cy="1371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8" descr="http://tbn0.google.com/images?q=tbn:jvFut_shqP6ymM:http://www.tucava.es/fotos/etiquetas/etiquetas%2520estano/etiqueta%2520estano%2520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90920" y="3352680"/>
            <a:ext cx="2103480" cy="1752840"/>
          </a:xfrm>
          <a:prstGeom prst="rect">
            <a:avLst/>
          </a:prstGeom>
          <a:ln w="0">
            <a:noFill/>
          </a:ln>
        </p:spPr>
      </p:pic>
      <p:sp>
        <p:nvSpPr>
          <p:cNvPr id="955" name="TextBox 6"/>
          <p:cNvSpPr/>
          <p:nvPr/>
        </p:nvSpPr>
        <p:spPr>
          <a:xfrm>
            <a:off x="2514600" y="5181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estañ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TextBox 7"/>
          <p:cNvSpPr/>
          <p:nvPr/>
        </p:nvSpPr>
        <p:spPr>
          <a:xfrm>
            <a:off x="304920" y="5105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a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TextBox 8"/>
          <p:cNvSpPr/>
          <p:nvPr/>
        </p:nvSpPr>
        <p:spPr>
          <a:xfrm>
            <a:off x="228600" y="23623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hier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Box 9"/>
          <p:cNvSpPr/>
          <p:nvPr/>
        </p:nvSpPr>
        <p:spPr>
          <a:xfrm>
            <a:off x="2666880" y="25909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plo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9" name="~PP2645.WAV" descr=""/>
          <p:cNvPicPr/>
          <p:nvPr/>
        </p:nvPicPr>
        <p:blipFill>
          <a:blip r:embed="rId9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/>
          </p:nvPr>
        </p:nvSpPr>
        <p:spPr>
          <a:xfrm>
            <a:off x="5105520" y="2282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61" name="Picture 2" descr="http://tbn0.google.com/images?q=tbn:Gk1351OcmfymyM:http://trujillodi.files.wordpress.com/2008/06/oro-foto.jpg">
            <a:hlinkClick r:id="rId1"/>
          </p:cNvPr>
          <p:cNvPicPr/>
          <p:nvPr/>
        </p:nvPicPr>
        <p:blipFill>
          <a:blip r:embed="rId2"/>
          <a:srcRect l="20603" t="0" r="20603" b="0"/>
          <a:stretch/>
        </p:blipFill>
        <p:spPr>
          <a:xfrm>
            <a:off x="1143000" y="380880"/>
            <a:ext cx="1719360" cy="2286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62" name="Picture 4" descr="http://tbn0.google.com/images?q=tbn:-njNz4p343xfvM:http://www.animalsculpture.co.uk/Chocolate%2520Labrador%2520Bronze%2520head%252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3581280"/>
            <a:ext cx="1676520" cy="2059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6" descr="http://tbn0.google.com/images?q=tbn:xxYH3vTQ8PPF6M:http://www.abadsegura.com/tienda/monedas/plat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2508480" cy="1505160"/>
          </a:xfrm>
          <a:prstGeom prst="rect">
            <a:avLst/>
          </a:prstGeom>
          <a:ln w="0">
            <a:noFill/>
          </a:ln>
        </p:spPr>
      </p:pic>
      <p:sp>
        <p:nvSpPr>
          <p:cNvPr id="964" name="TextBox 5"/>
          <p:cNvSpPr/>
          <p:nvPr/>
        </p:nvSpPr>
        <p:spPr>
          <a:xfrm>
            <a:off x="1066680" y="2819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TextBox 6"/>
          <p:cNvSpPr/>
          <p:nvPr/>
        </p:nvSpPr>
        <p:spPr>
          <a:xfrm>
            <a:off x="4419720" y="36576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pl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8"/>
          <p:cNvSpPr/>
          <p:nvPr/>
        </p:nvSpPr>
        <p:spPr>
          <a:xfrm>
            <a:off x="1371600" y="57913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bro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7" name="~PP1124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/>
          </p:nvPr>
        </p:nvSpPr>
        <p:spPr>
          <a:xfrm>
            <a:off x="5105520" y="2282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OS ELEMENTO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69" name="Picture 4" descr="http://tbn0.google.com/images?q=tbn:MVKGA9u5PGhRgM:http://www.windows.ucar.edu/physical_science/chemistry/o2_molecule_sm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457200"/>
            <a:ext cx="1781280" cy="1332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6" descr="http://tbn0.google.com/images?q=tbn:8YHSt50GAOO_0M:http://bp0.blogger.com/_vRGabQs66ho/R_JwkHkUG1I/AAAAAAAAAY8/1ABS0vz1D30/s320/Azufre%2B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2438280"/>
            <a:ext cx="1981080" cy="14940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8" descr="http://tbn0.google.com/images?q=tbn:iDSlLb6GOeirdM:http://www.tiemposfuturos.es/Imagenes/Atomo_Hidrogen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3962520"/>
            <a:ext cx="1676520" cy="1690560"/>
          </a:xfrm>
          <a:prstGeom prst="rect">
            <a:avLst/>
          </a:prstGeom>
          <a:ln w="0">
            <a:noFill/>
          </a:ln>
        </p:spPr>
      </p:pic>
      <p:sp>
        <p:nvSpPr>
          <p:cNvPr id="972" name="TextBox 5"/>
          <p:cNvSpPr/>
          <p:nvPr/>
        </p:nvSpPr>
        <p:spPr>
          <a:xfrm>
            <a:off x="266688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oxí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6"/>
          <p:cNvSpPr/>
          <p:nvPr/>
        </p:nvSpPr>
        <p:spPr>
          <a:xfrm>
            <a:off x="380880" y="4267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azuf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7"/>
          <p:cNvSpPr/>
          <p:nvPr/>
        </p:nvSpPr>
        <p:spPr>
          <a:xfrm>
            <a:off x="2666880" y="5791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hidróge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5" name="~PP2636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5105520" y="228240"/>
            <a:ext cx="3200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LOS PRODUCTO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77" name="Picture 8" descr="http://tbn0.google.com/images?q=tbn:Z1JDcbW54zRzrM:http://www.interarteonline.com/Alejandra_Gonzalez_Soca/Altas/Torso_marm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048120"/>
            <a:ext cx="1828800" cy="2711160"/>
          </a:xfrm>
          <a:prstGeom prst="rect">
            <a:avLst/>
          </a:prstGeom>
          <a:ln w="0">
            <a:noFill/>
          </a:ln>
        </p:spPr>
      </p:pic>
      <p:sp>
        <p:nvSpPr>
          <p:cNvPr id="978" name="TextBox 4"/>
          <p:cNvSpPr/>
          <p:nvPr/>
        </p:nvSpPr>
        <p:spPr>
          <a:xfrm>
            <a:off x="2286000" y="6019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már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5"/>
          <p:cNvSpPr/>
          <p:nvPr/>
        </p:nvSpPr>
        <p:spPr>
          <a:xfrm>
            <a:off x="380880" y="2590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 cor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0" name="Picture 2" descr="http://decoraciona.com/wp-content/uploads/2008/04/corcho-aislante.jpg"/>
          <p:cNvPicPr/>
          <p:nvPr/>
        </p:nvPicPr>
        <p:blipFill>
          <a:blip r:embed="rId3"/>
          <a:stretch/>
        </p:blipFill>
        <p:spPr>
          <a:xfrm>
            <a:off x="533520" y="228600"/>
            <a:ext cx="1623960" cy="2362320"/>
          </a:xfrm>
          <a:prstGeom prst="rect">
            <a:avLst/>
          </a:prstGeom>
          <a:ln w="0">
            <a:noFill/>
          </a:ln>
        </p:spPr>
      </p:pic>
      <p:pic>
        <p:nvPicPr>
          <p:cNvPr id="981" name="~PP1240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/>
          </p:nvPr>
        </p:nvSpPr>
        <p:spPr>
          <a:xfrm>
            <a:off x="434520" y="5791320"/>
            <a:ext cx="7086600" cy="380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34520" y="4495320"/>
            <a:ext cx="7086600" cy="12956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AGRICULTUR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84" name="crop_j0175548.png" descr=""/>
          <p:cNvPicPr/>
          <p:nvPr/>
        </p:nvPicPr>
        <p:blipFill>
          <a:blip r:embed="rId1"/>
          <a:stretch/>
        </p:blipFill>
        <p:spPr>
          <a:xfrm>
            <a:off x="2949480" y="21337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985" name="TextBox 6"/>
          <p:cNvSpPr/>
          <p:nvPr/>
        </p:nvSpPr>
        <p:spPr>
          <a:xfrm>
            <a:off x="45720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AN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TextBox 7"/>
          <p:cNvSpPr/>
          <p:nvPr/>
        </p:nvSpPr>
        <p:spPr>
          <a:xfrm>
            <a:off x="2895480" y="16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L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TextBox 10"/>
          <p:cNvSpPr/>
          <p:nvPr/>
        </p:nvSpPr>
        <p:spPr>
          <a:xfrm>
            <a:off x="5257800" y="16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U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8" name="Picture 2" descr="http://tbn0.google.com/images?q=tbn:OFWO0m8RNI3sGM:http://imagecache2.allposters.com/images/pic/ARG/20692~Pulses-and-Grains-Posters.jpg">
            <a:hlinkClick r:id="rId2"/>
          </p:cNvPr>
          <p:cNvPicPr/>
          <p:nvPr/>
        </p:nvPicPr>
        <p:blipFill>
          <a:blip r:embed="rId3"/>
          <a:srcRect l="0" t="13006" r="0" b="13006"/>
          <a:stretch/>
        </p:blipFill>
        <p:spPr>
          <a:xfrm>
            <a:off x="434880" y="2146320"/>
            <a:ext cx="2362320" cy="21970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4" descr="http://tbn0.google.com/images?q=tbn:1QO55VkaW5hvZM:http://blog.educastur.es/aula/files/2007/06/frutas.jpg">
            <a:hlinkClick r:id="rId4"/>
          </p:cNvPr>
          <p:cNvPicPr/>
          <p:nvPr/>
        </p:nvPicPr>
        <p:blipFill>
          <a:blip r:embed="rId5"/>
          <a:srcRect l="3877" t="0" r="3877" b="0"/>
          <a:stretch/>
        </p:blipFill>
        <p:spPr>
          <a:xfrm>
            <a:off x="53118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990" name="~PP1330.WAV" descr=""/>
          <p:cNvPicPr/>
          <p:nvPr/>
        </p:nvPicPr>
        <p:blipFill>
          <a:blip r:embed="rId6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9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434520" y="5791320"/>
            <a:ext cx="7086600" cy="380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34520" y="4495320"/>
            <a:ext cx="7086600" cy="12956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GANADERÍA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3" name="TextBox 6"/>
          <p:cNvSpPr/>
          <p:nvPr/>
        </p:nvSpPr>
        <p:spPr>
          <a:xfrm>
            <a:off x="457200" y="1523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L CER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7"/>
          <p:cNvSpPr/>
          <p:nvPr/>
        </p:nvSpPr>
        <p:spPr>
          <a:xfrm>
            <a:off x="2895480" y="16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 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TextBox 10"/>
          <p:cNvSpPr/>
          <p:nvPr/>
        </p:nvSpPr>
        <p:spPr>
          <a:xfrm>
            <a:off x="5257800" y="160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A TERN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6" name="Picture 2" descr="http://tbn0.google.com/images?q=tbn:iv7a7F3lXNVQIM:http://static.consumer.es/www/imgs/2007/01/el_cerdo.jpg">
            <a:hlinkClick r:id="rId1"/>
          </p:cNvPr>
          <p:cNvPicPr/>
          <p:nvPr/>
        </p:nvPicPr>
        <p:blipFill>
          <a:blip r:embed="rId2"/>
          <a:srcRect l="0" t="4374" r="0" b="4374"/>
          <a:stretch/>
        </p:blipFill>
        <p:spPr>
          <a:xfrm>
            <a:off x="434880" y="2146320"/>
            <a:ext cx="2362320" cy="219708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4" descr="http://tbn0.google.com/images?q=tbn:f5tXihZMtXeKKM:http://www.accionchilena.cl/images/Res%2520Publica.jpg">
            <a:hlinkClick r:id="rId3"/>
          </p:cNvPr>
          <p:cNvPicPr/>
          <p:nvPr/>
        </p:nvPicPr>
        <p:blipFill>
          <a:blip r:embed="rId4"/>
          <a:srcRect l="15500" t="0" r="15500" b="0"/>
          <a:stretch/>
        </p:blipFill>
        <p:spPr>
          <a:xfrm>
            <a:off x="2949480" y="213372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6" descr="http://tbn0.google.com/images?q=tbn:7J1CcXpJScKcZM:http://www.chubut.gov.ar/dgag/imagenes/ternera.jpg">
            <a:hlinkClick r:id="rId5"/>
          </p:cNvPr>
          <p:cNvPicPr/>
          <p:nvPr/>
        </p:nvPicPr>
        <p:blipFill>
          <a:blip r:embed="rId6"/>
          <a:srcRect l="11059" t="0" r="11059" b="0"/>
          <a:stretch/>
        </p:blipFill>
        <p:spPr>
          <a:xfrm>
            <a:off x="5311800" y="2133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999" name="~PP3731.WAV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3:16:27Z</dcterms:created>
  <dc:creator/>
  <dc:description/>
  <dc:language>en-US</dc:language>
  <cp:lastModifiedBy/>
  <dcterms:modified xsi:type="dcterms:W3CDTF">2009-01-08T14:34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